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692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156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69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855600" y="-360"/>
            <a:ext cx="294156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692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4040" cy="37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87800" cy="4465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-360" y="9432720"/>
            <a:ext cx="294156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692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855600" y="9432720"/>
            <a:ext cx="294156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1AD2C82-CF5F-4354-BC4B-4C2E405FA24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c369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55960" y="9433080"/>
            <a:ext cx="2941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3C43880-7E5B-4D3F-BAD5-1CDC029BE6F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c3692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30240" y="750960"/>
            <a:ext cx="4944960" cy="37083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71628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7162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2000" y="37162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0760" y="144756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4680" y="144756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71628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0760" y="371628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4680" y="371628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8381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7162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2000" y="37162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71628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71628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162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2000" y="37162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0760" y="144756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4680" y="144756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71628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0760" y="371628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4680" y="371628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8381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7162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2000" y="37162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71628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72"/>
          <p:cNvSpPr/>
          <p:nvPr/>
        </p:nvSpPr>
        <p:spPr>
          <a:xfrm>
            <a:off x="4388760" y="6337440"/>
            <a:ext cx="428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0" lang="de-DE" sz="900" spc="-1" strike="noStrike">
                <a:solidFill>
                  <a:srgbClr val="0f3277"/>
                </a:solidFill>
                <a:latin typeface="Arial"/>
              </a:rPr>
              <a:t>cronos unternehmensgruppe, Krüger, Elsterkamp, 16.04.2008</a:t>
            </a:r>
            <a:r>
              <a:rPr b="1" lang="de-DE" sz="9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0" lang="de-DE" sz="900" spc="-1" strike="noStrike">
                <a:solidFill>
                  <a:srgbClr val="0f3277"/>
                </a:solidFill>
                <a:latin typeface="Arial"/>
              </a:rPr>
              <a:t>| Seite </a:t>
            </a:r>
            <a:fld id="{FB4D5F58-85F3-4DA0-AC4B-90765AA5A93B}" type="slidenum">
              <a:rPr b="0" lang="de-DE" sz="900" spc="-1" strike="noStrike">
                <a:solidFill>
                  <a:srgbClr val="0f3277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2c3692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Line 174"/>
          <p:cNvSpPr/>
          <p:nvPr/>
        </p:nvSpPr>
        <p:spPr>
          <a:xfrm>
            <a:off x="457200" y="914400"/>
            <a:ext cx="8381880" cy="1440"/>
          </a:xfrm>
          <a:prstGeom prst="line">
            <a:avLst/>
          </a:prstGeom>
          <a:ln w="9360">
            <a:solidFill>
              <a:srgbClr val="0f3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692"/>
              </a:solidFill>
              <a:latin typeface="Arial"/>
            </a:endParaRPr>
          </a:p>
        </p:txBody>
      </p:sp>
      <p:sp>
        <p:nvSpPr>
          <p:cNvPr id="3" name="Line 175"/>
          <p:cNvSpPr/>
          <p:nvPr/>
        </p:nvSpPr>
        <p:spPr>
          <a:xfrm>
            <a:off x="2057400" y="6323040"/>
            <a:ext cx="6781680" cy="1440"/>
          </a:xfrm>
          <a:prstGeom prst="line">
            <a:avLst/>
          </a:prstGeom>
          <a:ln w="9360">
            <a:solidFill>
              <a:srgbClr val="0f3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692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262e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2c36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2c36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2c36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77" descr="gruppe_RGB_300"/>
          <p:cNvPicPr/>
          <p:nvPr/>
        </p:nvPicPr>
        <p:blipFill>
          <a:blip r:embed="rId2"/>
          <a:stretch/>
        </p:blipFill>
        <p:spPr>
          <a:xfrm>
            <a:off x="457200" y="6337440"/>
            <a:ext cx="1193760" cy="444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79" descr="C1-00"/>
          <p:cNvPicPr/>
          <p:nvPr/>
        </p:nvPicPr>
        <p:blipFill>
          <a:blip r:embed="rId3"/>
          <a:stretch/>
        </p:blipFill>
        <p:spPr>
          <a:xfrm>
            <a:off x="8837640" y="912960"/>
            <a:ext cx="306360" cy="30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6" descr="Stromast-links-kurz"/>
          <p:cNvPicPr/>
          <p:nvPr/>
        </p:nvPicPr>
        <p:blipFill>
          <a:blip r:embed="rId2"/>
          <a:stretch/>
        </p:blipFill>
        <p:spPr>
          <a:xfrm>
            <a:off x="3124080" y="914400"/>
            <a:ext cx="6019920" cy="24382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9"/>
          <p:cNvSpPr/>
          <p:nvPr/>
        </p:nvSpPr>
        <p:spPr>
          <a:xfrm>
            <a:off x="0" y="914400"/>
            <a:ext cx="3124080" cy="24382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692"/>
              </a:solidFill>
              <a:latin typeface="Arial"/>
            </a:endParaRPr>
          </a:p>
        </p:txBody>
      </p:sp>
      <p:pic>
        <p:nvPicPr>
          <p:cNvPr id="45" name="Picture 90" descr="C1-00"/>
          <p:cNvPicPr/>
          <p:nvPr/>
        </p:nvPicPr>
        <p:blipFill>
          <a:blip r:embed="rId3"/>
          <a:stretch/>
        </p:blipFill>
        <p:spPr>
          <a:xfrm>
            <a:off x="8837640" y="3046320"/>
            <a:ext cx="306360" cy="306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1" descr="gruppe_RGB_300"/>
          <p:cNvPicPr/>
          <p:nvPr/>
        </p:nvPicPr>
        <p:blipFill>
          <a:blip r:embed="rId4"/>
          <a:stretch/>
        </p:blipFill>
        <p:spPr>
          <a:xfrm>
            <a:off x="304920" y="5672160"/>
            <a:ext cx="1752480" cy="652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262e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2c36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2c36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2c36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Konzeptinhal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773760" y="46080"/>
            <a:ext cx="4240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692"/>
              </a:solidFill>
              <a:latin typeface="Arial"/>
            </a:endParaRPr>
          </a:p>
        </p:txBody>
      </p:sp>
      <p:grpSp>
        <p:nvGrpSpPr>
          <p:cNvPr id="94" name="Gruppierung 20"/>
          <p:cNvGrpSpPr/>
          <p:nvPr/>
        </p:nvGrpSpPr>
        <p:grpSpPr>
          <a:xfrm>
            <a:off x="453960" y="1609560"/>
            <a:ext cx="8056800" cy="4645080"/>
            <a:chOff x="453960" y="1609560"/>
            <a:chExt cx="8056800" cy="4645080"/>
          </a:xfrm>
        </p:grpSpPr>
        <p:sp>
          <p:nvSpPr>
            <p:cNvPr id="95" name="Rectangle 2"/>
            <p:cNvSpPr/>
            <p:nvPr/>
          </p:nvSpPr>
          <p:spPr>
            <a:xfrm>
              <a:off x="5626080" y="3933720"/>
              <a:ext cx="2884680" cy="11509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Grobkonzept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igrationskonzept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Test- und Schulungskonzept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Basiskonzept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Produktivsetzungskonzept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96" name="Rectangle 3"/>
            <p:cNvSpPr/>
            <p:nvPr/>
          </p:nvSpPr>
          <p:spPr>
            <a:xfrm>
              <a:off x="2333520" y="1628280"/>
              <a:ext cx="2739960" cy="1090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cronos Prozesslandkarte</a:t>
              </a:r>
              <a:br>
                <a:rPr sz="1200"/>
              </a:b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Zuordnung von Verantwortung und Durchführung für die Kernprozesse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97" name="Rectangle 6"/>
            <p:cNvSpPr/>
            <p:nvPr/>
          </p:nvSpPr>
          <p:spPr>
            <a:xfrm>
              <a:off x="453960" y="1609560"/>
              <a:ext cx="1346040" cy="4645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914040" y="3001680"/>
              <a:ext cx="1257120" cy="685800"/>
            </a:xfrm>
            <a:custGeom>
              <a:avLst/>
              <a:gdLst>
                <a:gd name="textAreaLeft" fmla="*/ 0 w 1257120"/>
                <a:gd name="textAreaRight" fmla="*/ 1257480 w 125712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rundsatz-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ntscheidung</a:t>
              </a:r>
              <a:endParaRPr b="0" lang="en-US" sz="1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99" name="AutoShape 8"/>
            <p:cNvSpPr/>
            <p:nvPr/>
          </p:nvSpPr>
          <p:spPr>
            <a:xfrm>
              <a:off x="914040" y="1831680"/>
              <a:ext cx="1257120" cy="685800"/>
            </a:xfrm>
            <a:custGeom>
              <a:avLst/>
              <a:gdLst>
                <a:gd name="textAreaLeft" fmla="*/ 0 w 1257120"/>
                <a:gd name="textAreaRight" fmla="*/ 1257480 w 125712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zess-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nalyse</a:t>
              </a:r>
              <a:endParaRPr b="0" lang="en-US" sz="1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0" name="AutoShape 9"/>
            <p:cNvSpPr/>
            <p:nvPr/>
          </p:nvSpPr>
          <p:spPr>
            <a:xfrm>
              <a:off x="914040" y="4146480"/>
              <a:ext cx="1257120" cy="685800"/>
            </a:xfrm>
            <a:custGeom>
              <a:avLst/>
              <a:gdLst>
                <a:gd name="textAreaLeft" fmla="*/ 0 w 1257120"/>
                <a:gd name="textAreaRight" fmla="*/ 1257480 w 125712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T-Konzept</a:t>
              </a:r>
              <a:endParaRPr b="0" lang="en-US" sz="1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1" name="AutoShape 10"/>
            <p:cNvSpPr/>
            <p:nvPr/>
          </p:nvSpPr>
          <p:spPr>
            <a:xfrm>
              <a:off x="914040" y="5305320"/>
              <a:ext cx="1257120" cy="685800"/>
            </a:xfrm>
            <a:custGeom>
              <a:avLst/>
              <a:gdLst>
                <a:gd name="textAreaLeft" fmla="*/ 0 w 1257120"/>
                <a:gd name="textAreaRight" fmla="*/ 1257480 w 125712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jekt-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lueprint</a:t>
              </a:r>
              <a:endParaRPr b="0" lang="en-US" sz="1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2" name="Rectangle 12"/>
            <p:cNvSpPr/>
            <p:nvPr/>
          </p:nvSpPr>
          <p:spPr>
            <a:xfrm>
              <a:off x="5626080" y="5124240"/>
              <a:ext cx="2884680" cy="10904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Erstellung einer Grobplanung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Erstellung einer Ressourcen- und Aufwandsschätzung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Ausschreibungsunterlage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3" name="Rectangle 14"/>
            <p:cNvSpPr/>
            <p:nvPr/>
          </p:nvSpPr>
          <p:spPr>
            <a:xfrm>
              <a:off x="2333520" y="2842920"/>
              <a:ext cx="2739960" cy="1090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Szenarienauswahl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4" name="Rectangle 15"/>
            <p:cNvSpPr/>
            <p:nvPr/>
          </p:nvSpPr>
          <p:spPr>
            <a:xfrm>
              <a:off x="2333520" y="3993840"/>
              <a:ext cx="2739960" cy="1090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Erstellung eines IT-Konzeptes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5" name="Rectangle 16"/>
            <p:cNvSpPr/>
            <p:nvPr/>
          </p:nvSpPr>
          <p:spPr>
            <a:xfrm>
              <a:off x="2333520" y="5124240"/>
              <a:ext cx="2739960" cy="1090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Beschreibung der organisatorischen Meilensteine des Projektes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6" name="AutoShape 17"/>
            <p:cNvSpPr/>
            <p:nvPr/>
          </p:nvSpPr>
          <p:spPr>
            <a:xfrm rot="5400000">
              <a:off x="5030640" y="2037960"/>
              <a:ext cx="609480" cy="387360"/>
            </a:xfrm>
            <a:prstGeom prst="upArrow">
              <a:avLst>
                <a:gd name="adj1" fmla="val 50519"/>
                <a:gd name="adj2" fmla="val 65981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7" name="AutoShape 18"/>
            <p:cNvSpPr/>
            <p:nvPr/>
          </p:nvSpPr>
          <p:spPr>
            <a:xfrm rot="5400000">
              <a:off x="5030640" y="3157200"/>
              <a:ext cx="609480" cy="387360"/>
            </a:xfrm>
            <a:prstGeom prst="upArrow">
              <a:avLst>
                <a:gd name="adj1" fmla="val 50519"/>
                <a:gd name="adj2" fmla="val 65981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8" name="AutoShape 19"/>
            <p:cNvSpPr/>
            <p:nvPr/>
          </p:nvSpPr>
          <p:spPr>
            <a:xfrm rot="5400000">
              <a:off x="5030640" y="4289040"/>
              <a:ext cx="609480" cy="387360"/>
            </a:xfrm>
            <a:prstGeom prst="upArrow">
              <a:avLst>
                <a:gd name="adj1" fmla="val 50519"/>
                <a:gd name="adj2" fmla="val 65981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9" name="AutoShape 20"/>
            <p:cNvSpPr/>
            <p:nvPr/>
          </p:nvSpPr>
          <p:spPr>
            <a:xfrm rot="5400000">
              <a:off x="5030640" y="5446440"/>
              <a:ext cx="609480" cy="387360"/>
            </a:xfrm>
            <a:prstGeom prst="upArrow">
              <a:avLst>
                <a:gd name="adj1" fmla="val 50519"/>
                <a:gd name="adj2" fmla="val 65981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10" name="Rectangle 21"/>
            <p:cNvSpPr/>
            <p:nvPr/>
          </p:nvSpPr>
          <p:spPr>
            <a:xfrm>
              <a:off x="5626080" y="1628280"/>
              <a:ext cx="2884680" cy="10904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Identifikation von Veränderungen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Identifikation von möglichen Handlungsbedarfen       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11" name="Rectangle 22"/>
            <p:cNvSpPr/>
            <p:nvPr/>
          </p:nvSpPr>
          <p:spPr>
            <a:xfrm>
              <a:off x="5626080" y="2793600"/>
              <a:ext cx="2884680" cy="10904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Vorstellung der Stammdatenmodelle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Bewertung der Stammdatenmodelle anhand von vordefinierten Kriterien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3T11:03:36Z</dcterms:created>
  <dc:creator>KrMa</dc:creator>
  <dc:description/>
  <dc:language>en-US</dc:language>
  <cp:lastModifiedBy>Uwe Pagel</cp:lastModifiedBy>
  <cp:lastPrinted>2003-04-22T12:09:52Z</cp:lastPrinted>
  <dcterms:modified xsi:type="dcterms:W3CDTF">2008-04-24T13:51:14Z</dcterms:modified>
  <cp:revision>926</cp:revision>
  <dc:subject/>
  <dc:title>PowerPoint-Präsentation</dc:title>
</cp:coreProperties>
</file>